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150C-001C-4519-93F5-0463B802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8B5-071F-40B9-BFE1-EBBF51F4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F12-CC1C-4ADB-9EE6-1143D76B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B192-DC44-4A7B-A6AC-49B71BC4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010B-8F07-481D-A350-059FEB7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99E9-4F76-4C78-9F70-D0037F49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6838-9685-4887-AFF6-7E86B48D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4D5-3CEB-46FB-B784-EB4CBF8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DC9C-B8B0-48D0-B4A9-553FEBD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D47E-2A24-47C7-B650-CFC3DB3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4DC1-2C4B-455F-BCA3-44D23E9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5939-FDB5-4982-B0D7-4ACB42A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436-9298-4E61-8093-D181311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1DE-D2D9-45FE-8A0B-7CDB51D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BE0B-2DFD-4D83-BACD-073DAAC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437-9A74-43C4-A4DB-6ACEFAF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7350-CF85-436F-9B4C-5DEEB31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C40F-4501-4B81-908D-19705995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833B-7422-4F18-BC3A-99B27832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7DE-121C-4C10-9BE4-231E1D9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EAB5-DA0C-4740-BAB6-9E7DE34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7C23-E314-4340-AB88-323E36B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F88D-49CC-474F-A3F8-084E0C5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8D6B-9304-4878-8007-3FE97D0B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A994-D2B4-42DE-9925-3C1F9D2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9E25-E360-483B-9DE3-86BD2A1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4698-5D89-48FE-BDD4-2CEBEA1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255-252C-4FD7-B806-F03C9000C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2EF-BA8A-473B-9007-A24E66646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ordable food: Consumers spend an average of only 12-14% of their disposable income on all food in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69084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most 1/2 of food dollars and 1/3 of food volume is from  restaurants/foodserv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farm income is as high or higher than  that of urban househol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than adequate nutrition? The dual problem of growing obesity and growing hunger/pover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lume of Foo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.S. produced 1.3 trillion pounds of raw food commodities in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went to animal fe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% went to expo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50% went to food manufacturing and processing –including fresh produ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ong the supply chain roughly 1/3 is lost – wast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ocess 8"/>
          <p:cNvSpPr/>
          <p:nvPr/>
        </p:nvSpPr>
        <p:spPr>
          <a:xfrm>
            <a:off x="6553080" y="152280"/>
            <a:ext cx="2448000" cy="5337360"/>
          </a:xfrm>
          <a:prstGeom prst="flowChartProcess">
            <a:avLst/>
          </a:prstGeom>
          <a:gradFill rotWithShape="0">
            <a:gsLst>
              <a:gs pos="0">
                <a:srgbClr val="ccffcc"/>
              </a:gs>
              <a:gs pos="100000">
                <a:srgbClr val="000000"/>
              </a:gs>
            </a:gsLst>
            <a:lin ang="1524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dible Foo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y order of weight-B. lbs.)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Proc. 63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Dairy Prod. 6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resh 56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Wheat Fl. 41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Proc. 39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Fresh 39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ed Meat 3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ats 2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oultry 2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Sugar 19.6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rn Swt. 15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Eggs 9.7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ice 6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ish/seafd. 4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Oats 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nimal fat 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eanuts 2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egumes 1.8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Tree nuts 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arley 0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Right Arrow Callout 3"/>
          <p:cNvSpPr/>
          <p:nvPr/>
        </p:nvSpPr>
        <p:spPr>
          <a:xfrm>
            <a:off x="380880" y="762120"/>
            <a:ext cx="3911760" cy="5113080"/>
          </a:xfrm>
          <a:prstGeom prst="rightArrowCallout">
            <a:avLst>
              <a:gd name="adj1" fmla="val 49929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p Produ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(Billion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rn &amp; feed grains 77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ybeans 21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ats 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rley 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ye 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heat 4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e 26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ruit 32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egetables12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gar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gumes 3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446920" y="289548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Animal Fee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416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0" name="Pentagon 6" descr=""/>
          <p:cNvPicPr/>
          <p:nvPr/>
        </p:nvPicPr>
        <p:blipFill>
          <a:blip r:embed="rId1"/>
          <a:stretch/>
        </p:blipFill>
        <p:spPr>
          <a:xfrm>
            <a:off x="3681360" y="2103480"/>
            <a:ext cx="1981080" cy="26082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7"/>
          <p:cNvSpPr/>
          <p:nvPr/>
        </p:nvSpPr>
        <p:spPr>
          <a:xfrm rot="19786800">
            <a:off x="2941200" y="725400"/>
            <a:ext cx="1997280" cy="1225800"/>
          </a:xfrm>
          <a:prstGeom prst="rightArrow">
            <a:avLst>
              <a:gd name="adj1" fmla="val 50000"/>
              <a:gd name="adj2" fmla="val 48896"/>
            </a:avLst>
          </a:prstGeom>
          <a:gradFill rotWithShape="0">
            <a:gsLst>
              <a:gs pos="0">
                <a:srgbClr val="ffffff"/>
              </a:gs>
              <a:gs pos="100000">
                <a:srgbClr val="cbb6ec"/>
              </a:gs>
            </a:gsLst>
            <a:lin ang="1261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Exports Bulk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230.6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220960" y="617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Right Arrow 15"/>
          <p:cNvSpPr/>
          <p:nvPr/>
        </p:nvSpPr>
        <p:spPr>
          <a:xfrm>
            <a:off x="2819520" y="4114800"/>
            <a:ext cx="3859200" cy="1447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2949480" y="464832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Food Processing/handling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Down Arrow 20"/>
          <p:cNvSpPr/>
          <p:nvPr/>
        </p:nvSpPr>
        <p:spPr>
          <a:xfrm>
            <a:off x="3598920" y="5176800"/>
            <a:ext cx="2287440" cy="1308240"/>
          </a:xfrm>
          <a:prstGeom prst="downArrow">
            <a:avLst>
              <a:gd name="adj1" fmla="val 50000"/>
              <a:gd name="adj2" fmla="val 50699"/>
            </a:avLst>
          </a:prstGeom>
          <a:gradFill rotWithShape="0">
            <a:gsLst>
              <a:gs pos="0">
                <a:srgbClr val="cbb6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Garamond"/>
              </a:rPr>
              <a:t>Exports High Value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348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TextBox 21"/>
          <p:cNvSpPr/>
          <p:nvPr/>
        </p:nvSpPr>
        <p:spPr>
          <a:xfrm>
            <a:off x="272880" y="6448320"/>
            <a:ext cx="86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pproximations based on 2009 data from http://www.ers.usda.gov/data/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Right Arrow 22"/>
          <p:cNvSpPr/>
          <p:nvPr/>
        </p:nvSpPr>
        <p:spPr>
          <a:xfrm rot="1726800">
            <a:off x="4827240" y="709560"/>
            <a:ext cx="2003400" cy="125892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907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Imports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66.8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35800" y="15228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Flow of Food in U.S. Food Syste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Half Frame 25"/>
          <p:cNvSpPr/>
          <p:nvPr/>
        </p:nvSpPr>
        <p:spPr>
          <a:xfrm rot="2428800">
            <a:off x="6891120" y="5924520"/>
            <a:ext cx="1927080" cy="1712880"/>
          </a:xfrm>
          <a:prstGeom prst="pie">
            <a:avLst/>
          </a:prstGeom>
          <a:gradFill rotWithShape="0">
            <a:gsLst>
              <a:gs pos="0">
                <a:srgbClr val="dccf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TextBox 26"/>
          <p:cNvSpPr/>
          <p:nvPr/>
        </p:nvSpPr>
        <p:spPr>
          <a:xfrm rot="18620400">
            <a:off x="6719040" y="5992560"/>
            <a:ext cx="149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way from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1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TextBox 27"/>
          <p:cNvSpPr/>
          <p:nvPr/>
        </p:nvSpPr>
        <p:spPr>
          <a:xfrm rot="2332800">
            <a:off x="7750800" y="6148800"/>
            <a:ext cx="1212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t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2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Bent Arrow 28"/>
          <p:cNvSpPr/>
          <p:nvPr/>
        </p:nvSpPr>
        <p:spPr>
          <a:xfrm rot="9645600">
            <a:off x="5687640" y="5235120"/>
            <a:ext cx="1477800" cy="1047960"/>
          </a:xfrm>
          <a:prstGeom prst="pie">
            <a:avLst/>
          </a:prstGeom>
          <a:solidFill>
            <a:srgbClr val="acac13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TextBox 31"/>
          <p:cNvSpPr/>
          <p:nvPr/>
        </p:nvSpPr>
        <p:spPr>
          <a:xfrm rot="20199600">
            <a:off x="6070320" y="58100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Waste 30-50%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5715000" y="2286000"/>
            <a:ext cx="1295280" cy="167652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Beverag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.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arb. Soda 114.0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lcohol 61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Juices 18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ffee/tea 7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3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imal Prot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&amp; Poultry sector receives over half of agricultural cash receip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grew 5%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1 – 200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th poultry up 104% and red meat down 22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 &amp; seafood up 37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 warnings about red meat’s connection to heart disease and cancer led this cha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novation in production of poultry and fish lowered costs relative to red m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novation Leads to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xed beef – led to efficiencies in the supply ch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ve breeding led to leaner p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 concerns force new production and slaughter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e to be the low-cost provider leads to efficient operation and consolid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 packing firms and retailers the most concentrated after genomics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igure_310_full.jpg"/>
          <p:cNvPicPr/>
          <p:nvPr/>
        </p:nvPicPr>
        <p:blipFill>
          <a:blip r:embed="rId1"/>
          <a:stretch/>
        </p:blipFill>
        <p:spPr>
          <a:xfrm>
            <a:off x="152280" y="1371600"/>
            <a:ext cx="8842320" cy="5029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330120" y="6359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urce: Buhr and Ginn, 2011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380880" y="3049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eat Supply Chain Concentration With Department of Justice (DOJ) Concentration  Classific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4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0 – 2009 fresh fruits and vegetables increased 35% and 29% respective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increased trade – Canada, Mexico, Chi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quest for organic production, local foods, healthier school lunches, and rising inco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support for production lags that of othe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have helped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omics links produce to potential illness c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ative health measures linked to fresh produce consum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ing year around supply  leads to “preferred suppliers” which leads to consolid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issues rise with more fresh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“kill step” between field and f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eferences evolve with increased income,  food exposure and demographic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al hierarchy of preferences follows a pattern set by Maslow’s Hierarchy of Psychological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needs come first –Nutritious, Affordable, Sa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te and Convenience follow quickly beh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1066680" y="457200"/>
            <a:ext cx="7010640" cy="548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56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3048120" y="2895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133720" y="4419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523880" y="51814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133720" y="5334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Nutritious, Safe, Cheap (Sustains Life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879640" y="464832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stes Good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565440" y="374796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58128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Variety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895480" y="2362320"/>
            <a:ext cx="32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mprove Health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62520" y="121932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a7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tatus’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Social Caus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371600" y="76212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99072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HIERARCHY OF FOOD CHOIC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228600" y="63244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736640"/>
            <a:ext cx="8686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2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xpectations and Realities of the Food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an D. Kins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.S. population generally enjoys the basic n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 are “food desserts” and homeless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ssistance programs of USDA help ensure basic food needs are m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ool lunches and breakfa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men, Infants and Children programs (W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emental Nutrition Assistance Program (SNAP – food stamp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s that deliver food direct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 dominates food choices – right after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pay for someone else to harvest and prepare their foo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ed, ready-to-eat or heat foods for home or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urants – especially fast food p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lf of food from restaurants is “taken-out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fety is taken for granted in U.S.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t, 48 million people get foodborne illness and 3000 die annu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erous food recalls lead to eroded confidence in the safety of the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idence fell from 70% to 33% between the  1990’s and 2008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x0006_Food Modernization Act of 2011 helps to ensure traceability of food along the supply chain and better identify sources of safety/quality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 term chronic illnesses related to food consumption add to food safety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with allergens, foods that seem addictive, excess salt, sugar or f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increases due to exposure to  larger number of “ethnic” foods, food innovation, line extensions by manufacturers and more “store brand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1,519 new foods and beverages were introduced on average, per year between 2006 and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brands are more than 25% of offerings in large stores in 20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mers experience diminishing returns in the consumption of repeated food cho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 new and different experi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een as an experience as well as nourish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 variety confuses consume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shows multiple choices takes more shopping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ive choices lead to no purchases at a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Health -- Food choice and diets tailored to enhance normal healt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 preventative medicin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(unprocessed)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processed with added nutrients--Calcium, Vitamin C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dr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y eating leads to lower health care cos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us and Social Causes lead food tr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ncome and education rise, so does the quest of newer and better foods and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picuous Consumption” ala Veblan (1899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oisseur Culture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concerns and lifestyle quests support organic farming and the demand for organic, local, and natural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aps with concerns for personal health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c, local, and natural food literature, labels, and marketing has led to confusion and sev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istaken beliefs and myth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 food is organic and grown within 100 miles of where it is s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common definition for these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, organic and/or local foods are safer and healthi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modified foods are a health haza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tigious and innovative foods trickle down to the mass market creating the need for status seekers to find another set of “status” foo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se who can afford to pay will demand foods consistent with their social causes or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niche foods will migrate to the main stream as food companies adopt and advertise their compliance, e.g. cage free poul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als of Food and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bundant, nutritious, safe, and affordable food for the American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healthy and productive citize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dequate farm income to continu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economically viable rural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courage agricultural innovation and producti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172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- 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are increasingly diverse in ethnicity, tastes, lifestyle, and inco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graphic trends are towards non-white, elderly, single person households and no-child cou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me distribution is skewed towards more poor and a few very rich.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lining middle clas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p 1% had 19% of earned  income (2009); 43% of financial wealth and 35% of net worth in the U.S. (2007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ian income fell to $49,445 in 2011 from  $55,303 in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for the poor in greater demand as economy slow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/3 of the $98.4 Billion USDA budget in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mitigate food insecurity for 15% of househo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P (Supplemental Nutrition Assistance Program) – formerly food stamps -  about 72% of food assistance budg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C (Women, Infants and Children) includes some health care and education. (Serves 1/2 of all infants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unch and Breakfast programs support demand for farm commo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s are regulated to provide needed nutr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ietary guidelines decrease fat and calories and increase fruits and vegetab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s to demands from parents and health professionals to help reduce obe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combine allocative and dynamic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economic activity because it gives spending power (for food) to consumers and profits to busines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demand for food and revenue for produc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hunger is an investment in human health and economic prosper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seek credibl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ing trust in professionals and food label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e of the “citizen exper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nion of individuals prized high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media &amp; blogs boost this tre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deral truth-in-labeling &amp; advert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nd Drug Admini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Trade and Comm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Agricultur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x food systems evolve from globalization of supply, consolidation of firms and fragmentation of consumer dema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retailers learn more about consumer demand the information is shared throughout the supply chain ultimately determining farm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policy can promote healthy agricultural industries, economic infrastructure, food safety and a healthy, productive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rm to Fork – a Complex P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inant players in the food supply chain evolved with urbanization, efficient production, innovation and new businesses that moved food to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this dominance passed from farms to manufacturers to wholesalers to  retail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technology created the information age of retailing and supply chain manag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ly Chain Management Becomes the Main Challen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digital information about sales, store inventories were shrunk and supplies were replenished “on demand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bout sales (consumer demand) was transmitted up through the supply chain to manufacturers and eventually to farm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micking the “just-in-time” delivery system started in the manufacturing se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tional Food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in agricultural commodities opened up exports and imports – boosting the supply of various foods and broadening consumers’ food experi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0, food manufacturers depended on global markets for many suppl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icate webs of production, shipment, and  regulations makes it hard to trace the origin of foo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 flipH="1">
            <a:off x="6400440" y="990720"/>
            <a:ext cx="1219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09480" y="1752480"/>
            <a:ext cx="1219320" cy="533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.1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.S.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91520" y="1981080"/>
            <a:ext cx="144756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?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eign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41308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&gt;30,000 U.S.</a:t>
            </a:r>
            <a:br>
              <a:rPr sz="1600"/>
            </a:b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Processing/Manufacturing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4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Processing Si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990720" y="2743200"/>
            <a:ext cx="1666800" cy="7239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9,000 Domestic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477120" y="274320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87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72200" y="5181480"/>
            <a:ext cx="144792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60,0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service  Outlet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5943600" y="4267080"/>
            <a:ext cx="214308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25,000 Retail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  &amp; Beverage Stor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2514600" y="380880"/>
            <a:ext cx="419112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3657600" y="417600"/>
            <a:ext cx="3124080" cy="596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Freeform 13"/>
          <p:cNvSpPr/>
          <p:nvPr/>
        </p:nvSpPr>
        <p:spPr>
          <a:xfrm>
            <a:off x="6172200" y="635040"/>
            <a:ext cx="914400" cy="355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962160" y="1676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095520" y="1219320"/>
            <a:ext cx="1676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3885840" y="1981080"/>
            <a:ext cx="1219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572000" y="51814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133720" y="114300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657600" y="1981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03812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962520" y="2971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4876560" y="313704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505320" y="3048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3048120" y="29718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4876920" y="2666880"/>
            <a:ext cx="7617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41972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1" name="Group 28"/>
          <p:cNvGrpSpPr/>
          <p:nvPr/>
        </p:nvGrpSpPr>
        <p:grpSpPr>
          <a:xfrm>
            <a:off x="304920" y="304920"/>
            <a:ext cx="2133360" cy="1414440"/>
            <a:chOff x="304920" y="304920"/>
            <a:chExt cx="2133360" cy="1414440"/>
          </a:xfrm>
        </p:grpSpPr>
        <p:pic>
          <p:nvPicPr>
            <p:cNvPr id="152" name="Picture 29" descr="Dairy Farm"/>
            <p:cNvPicPr/>
            <p:nvPr/>
          </p:nvPicPr>
          <p:blipFill>
            <a:blip r:embed="rId1"/>
            <a:stretch/>
          </p:blipFill>
          <p:spPr>
            <a:xfrm>
              <a:off x="304920" y="686160"/>
              <a:ext cx="167616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0" descr="cows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106668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1"/>
          <p:cNvGrpSpPr/>
          <p:nvPr/>
        </p:nvGrpSpPr>
        <p:grpSpPr>
          <a:xfrm>
            <a:off x="7086600" y="228600"/>
            <a:ext cx="1828440" cy="1636200"/>
            <a:chOff x="7086600" y="228600"/>
            <a:chExt cx="1828440" cy="1636200"/>
          </a:xfrm>
        </p:grpSpPr>
        <p:pic>
          <p:nvPicPr>
            <p:cNvPr id="155" name="Picture 32" descr="Loading animal feed"/>
            <p:cNvPicPr/>
            <p:nvPr/>
          </p:nvPicPr>
          <p:blipFill>
            <a:blip r:embed="rId3"/>
            <a:stretch/>
          </p:blipFill>
          <p:spPr>
            <a:xfrm>
              <a:off x="7722360" y="848160"/>
              <a:ext cx="1192680" cy="10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sheep"/>
            <p:cNvPicPr/>
            <p:nvPr/>
          </p:nvPicPr>
          <p:blipFill>
            <a:blip r:embed="rId4"/>
            <a:stretch/>
          </p:blipFill>
          <p:spPr>
            <a:xfrm>
              <a:off x="7086600" y="228600"/>
              <a:ext cx="1113120" cy="92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34" descr="restraurant image"/>
          <p:cNvPicPr/>
          <p:nvPr/>
        </p:nvPicPr>
        <p:blipFill>
          <a:blip r:embed="rId5"/>
          <a:stretch/>
        </p:blipFill>
        <p:spPr>
          <a:xfrm>
            <a:off x="3657600" y="5181480"/>
            <a:ext cx="1676520" cy="7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Retail milk"/>
          <p:cNvPicPr/>
          <p:nvPr/>
        </p:nvPicPr>
        <p:blipFill>
          <a:blip r:embed="rId6"/>
          <a:stretch/>
        </p:blipFill>
        <p:spPr>
          <a:xfrm>
            <a:off x="3809880" y="42670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Milking parlor"/>
          <p:cNvPicPr/>
          <p:nvPr/>
        </p:nvPicPr>
        <p:blipFill>
          <a:blip r:embed="rId7"/>
          <a:stretch/>
        </p:blipFill>
        <p:spPr>
          <a:xfrm>
            <a:off x="2514600" y="1014480"/>
            <a:ext cx="121932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P3170009"/>
          <p:cNvPicPr/>
          <p:nvPr/>
        </p:nvPicPr>
        <p:blipFill>
          <a:blip r:embed="rId8"/>
          <a:stretch/>
        </p:blipFill>
        <p:spPr>
          <a:xfrm>
            <a:off x="4952880" y="2629080"/>
            <a:ext cx="106704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8" descr="P3170013"/>
          <p:cNvPicPr/>
          <p:nvPr/>
        </p:nvPicPr>
        <p:blipFill>
          <a:blip r:embed="rId9"/>
          <a:stretch/>
        </p:blipFill>
        <p:spPr>
          <a:xfrm>
            <a:off x="2819520" y="26668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9" descr="P3170011"/>
          <p:cNvPicPr/>
          <p:nvPr/>
        </p:nvPicPr>
        <p:blipFill>
          <a:blip r:embed="rId10"/>
          <a:stretch/>
        </p:blipFill>
        <p:spPr>
          <a:xfrm>
            <a:off x="5105520" y="9907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Line 40"/>
          <p:cNvSpPr/>
          <p:nvPr/>
        </p:nvSpPr>
        <p:spPr>
          <a:xfrm flipH="1">
            <a:off x="5029200" y="21337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0" y="51055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ahoma"/>
              </a:rPr>
              <a:t>U.S. Global Food System: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Picture 42" descr=""/>
          <p:cNvPicPr/>
          <p:nvPr/>
        </p:nvPicPr>
        <p:blipFill>
          <a:blip r:embed="rId11"/>
          <a:stretch/>
        </p:blipFill>
        <p:spPr>
          <a:xfrm>
            <a:off x="3962520" y="3352680"/>
            <a:ext cx="901440" cy="70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Text Box 45"/>
          <p:cNvSpPr/>
          <p:nvPr/>
        </p:nvSpPr>
        <p:spPr>
          <a:xfrm>
            <a:off x="2444760" y="36576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2,559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olesal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18880" y="61722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11 million U.S.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8" name="Picture 47" descr="j0383886[1]"/>
          <p:cNvPicPr/>
          <p:nvPr/>
        </p:nvPicPr>
        <p:blipFill>
          <a:blip r:embed="rId12"/>
          <a:stretch/>
        </p:blipFill>
        <p:spPr>
          <a:xfrm>
            <a:off x="5562720" y="5878440"/>
            <a:ext cx="981000" cy="979560"/>
          </a:xfrm>
          <a:prstGeom prst="rect">
            <a:avLst/>
          </a:prstGeom>
          <a:ln w="0">
            <a:noFill/>
          </a:ln>
        </p:spPr>
      </p:pic>
      <p:sp>
        <p:nvSpPr>
          <p:cNvPr id="169" name="Line 50"/>
          <p:cNvSpPr/>
          <p:nvPr/>
        </p:nvSpPr>
        <p:spPr>
          <a:xfrm>
            <a:off x="4495680" y="502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1981080" y="1828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Freeform 52"/>
          <p:cNvSpPr/>
          <p:nvPr/>
        </p:nvSpPr>
        <p:spPr>
          <a:xfrm rot="14869800">
            <a:off x="4700520" y="5074920"/>
            <a:ext cx="137160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219960" y="6399360"/>
            <a:ext cx="519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Source: Shaun Kennedy, Director, The National Center for Food Protection and Defense,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University of Minnesota. 2006,  Copyrighted; Used with permission. 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TextBox 51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1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 Savings and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supply chain management methods saved costs at all levels, leading to more efficient operations and the consolidation of firms into large enterprises. (Dynamic Efficienc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 farming, excess supply and export markets change the industr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cessors become food manufactur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kers and wholesalers market food to retail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ail grocery and foodservice bifurcates into self-distributing mega companies and independ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971800" y="6095880"/>
            <a:ext cx="29019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ood Manufactur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380880"/>
            <a:ext cx="2895480" cy="137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od Service: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aurants-Quick Servic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thers…..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253560" y="304920"/>
            <a:ext cx="2586960" cy="459720"/>
          </a:xfrm>
          <a:prstGeom prst="rect">
            <a:avLst/>
          </a:prstGeom>
          <a:solidFill>
            <a:srgbClr val="30fb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etail Food Stor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47200" y="571500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all Packaged food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5562720"/>
            <a:ext cx="3048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ecial Foods/bulk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5200" y="3962520"/>
            <a:ext cx="163836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party wholesaler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upervalu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Nash Finch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51040" y="1676520"/>
            <a:ext cx="2160360" cy="1435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t i.e. mea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gment i.e. airlin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5638680" y="762120"/>
            <a:ext cx="838440" cy="533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5791320" y="837720"/>
            <a:ext cx="1600200" cy="525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8001000" y="5486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7772400" y="8377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3124080" y="1523520"/>
            <a:ext cx="0" cy="403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838080" y="4191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762120" y="1447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1676520" y="3733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676520" y="3733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Line 18"/>
          <p:cNvSpPr/>
          <p:nvPr/>
        </p:nvSpPr>
        <p:spPr>
          <a:xfrm flipV="1">
            <a:off x="26668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25146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Line 20"/>
          <p:cNvSpPr/>
          <p:nvPr/>
        </p:nvSpPr>
        <p:spPr>
          <a:xfrm flipV="1">
            <a:off x="4419720" y="914040"/>
            <a:ext cx="0" cy="5181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4221360" y="255960"/>
            <a:ext cx="1340640" cy="459720"/>
          </a:xfrm>
          <a:prstGeom prst="rect">
            <a:avLst/>
          </a:prstGeom>
          <a:solidFill>
            <a:srgbClr val="003399"/>
          </a:solidFill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ake ou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3657600" y="609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Line 23"/>
          <p:cNvSpPr/>
          <p:nvPr/>
        </p:nvSpPr>
        <p:spPr>
          <a:xfrm flipH="1">
            <a:off x="5715000" y="457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383600" y="1598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stm. 2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862320" y="1144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021640" y="2437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tsm. 5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048120" y="243720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06000" y="4341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6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299960" y="5106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0" y="3352680"/>
            <a:ext cx="161460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roadlin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ysco, Ahol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2369520" y="4038480"/>
            <a:ext cx="16408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ains/In hous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6024600" y="2971800"/>
            <a:ext cx="1249200" cy="16779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ore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Beverages,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alty snack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038560" y="1066680"/>
            <a:ext cx="165744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lf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Kroger, Wal-Mart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TextBox 33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2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28600" y="624852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8:40:30Z</dcterms:created>
  <dc:creator>Walt</dc:creator>
  <dc:description/>
  <dc:language>en-US</dc:language>
  <cp:lastModifiedBy>Walt</cp:lastModifiedBy>
  <cp:lastPrinted>2012-05-03T22:36:15Z</cp:lastPrinted>
  <dcterms:modified xsi:type="dcterms:W3CDTF">2012-05-31T15:49:11Z</dcterms:modified>
  <cp:revision>26</cp:revision>
  <dc:subject/>
  <dc:title>U.S. Policies Affecting Food and Agricultural Marketing</dc:title>
</cp:coreProperties>
</file>